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8560" y="2565360"/>
            <a:ext cx="87850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ВОД У ФАРМАЦЕУТСКУ ТЕХН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кстрактивн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Екстракт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tract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чни, прашкасти или получврсти препарати који се израђују екстракцијом дрога одговарајућим растварачима неким од екстракционих поступ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Чајев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- једноличне мешавине уситњених или неуситњених др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аплазме су чајеви искључиво за спољну примену – ОБ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2268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ПРИМ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Infusi folii Salviae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3,05/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Acidi borici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i="1" lang="it-IT" sz="2400" spc="-1" strike="noStrike">
                <a:solidFill>
                  <a:srgbClr val="800000"/>
                </a:solidFill>
                <a:latin typeface="Arial"/>
              </a:rPr>
              <a:t>fiat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infu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За испирање г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alviae foli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ст жалфије, каду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- Ароматична дро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а концентрација у инфузу за испирање грла 2,5%. Чувати заштићено од светлости, деловање антисеп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концентрације за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alviae folium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22 грама препарата : 3,05 грама дрог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0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,5 грама жалфије  - средња концентрација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470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Infusi folii Salviae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3,05/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Acidi borici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i="1" lang="it-IT" sz="2400" spc="-1" strike="noStrike">
                <a:solidFill>
                  <a:srgbClr val="800000"/>
                </a:solidFill>
                <a:latin typeface="Arial"/>
              </a:rPr>
              <a:t>fiat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infu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За испирање г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концентрације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Acidum boricum 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на киселина је официнална 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лако се раствара у кључалој води и у растворима је дозвољена средња концентрација 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22 грама препарата : 2 грама борне кисели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0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,64 грама борне киселине тј. количина борне киселине у препарату је 1,64% што је мање од 3%, па средња концентрација није прекора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огу просе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 кроз сито 6 (лист) и сипати у ерленмајер широког гр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ити делом воде који је приближно исте количине колико има и дроге (3гр), прелити дрогу да бубри 5 мин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осталу количину воде загрејати да прокључа, склонити са топлоте, растворити 2 грама борне киселине у кључалој води и тиме прелити д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вити 30 минута да стоји покривено сахатним стаклом (јер је дрога ароматична и садржи испарљива етарска уља која имају лековита свој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лико пута промућкати, процедити у тарирану чашу преко мало вате наквашене пречишћеном водом, изгњечити вату да истиснемо преостали садржај и допунити до 122 грама препарата колико прописује рецеп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вити да се слегне и уколико се појавио талог одлити (декантовати) или процедити у тарирану тамну боч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8864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тамној боч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натура је црвена и на њој пи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а за грг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Рок употребе 3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Чувати на хлад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Пре употребе промућк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тум                 потп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антисептик, адстрин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800000"/>
                </a:solidFill>
                <a:latin typeface="Arial"/>
              </a:rPr>
              <a:t>Macerati Althaeae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180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fiat macer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Узети на 3 ча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                     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по једну каш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што није прописана количина дроге за мацерацију узима с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општи пропис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Jug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V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из 10 делова слузне дроге добија се 200 делова маце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10 грама корена белог слеза : 200 грама мацерата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x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: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 грама корена белог слеза за маце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з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thaeae radix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п.д. = 2,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: 18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0,7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 2,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а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ра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дмерити 9 грама корена белог слеза (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Althaeae rad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и просејати кроз сито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вити на ситније сито и корен испрати пречишћеном водом од калцијум сулфата којим се дрога посипа да би се очувала и заштитила од инсека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рогу пренети у ерленмајер широког грла и прелити са 9гр воде, оставити да стоји 5 минута а затим прелити са остатком воде до 180 гр и мацеровати 30 минута уз чешће мућкање да би се пореметила равнотежа која настаје изједначавањем концентрација активних принципа унутар и ван биљне ћелије из које се врши екстра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цедити кроз мало вате наквашене пречишћеном водом у тамну, тарирану бочицу од 200 милилитара. После цеђења остатак дроге се испере водом и уколико је потребно допуни до прописане количине 180 гр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давање и сигнатура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тамној бочици са белом сигнатуром на којој пиш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3 часа по 1 каш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е употребе промућк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Рок 3 дана, чувати на хлад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тум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п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смањује надражај на каша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Decocti radicis Primulae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2/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M.fiat decoc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Узети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3x1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каш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за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adi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Primulae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С.п.д. 0,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 : 100 =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=0,3 &lt; 0,5 грама, доза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Израда: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њена дрога се просеје кроз сито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ер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ама 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елије са 100 грама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ејати док се не постигне 90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 постизања ове температуре грејање се наставља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вруће процеди и допуни врућом пречишћеном водом до 100 гр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Decocti radicis Primulae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2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M.fiat deco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Узети 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3x1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каш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тамној бочи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натура ј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бе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којој пи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x1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ш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Пре употребе промућк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Рок употребе 3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Чува се на хлад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тум и потп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експектор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УСИТЊЕНОСТ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љне дроге су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осушени делови биљака који се могу користити у лековите сврх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корен, лист, ц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страктивни лековити препарати - добијени екстракционим постпупцима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ч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р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чврст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љне дроге сложене структуре – садрже бројне активне  принципе али 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оредне принц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ластне матер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е могу да ометају израду екстрактивног препарата (пр. скроб при изради екстракта белог сл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i="1" lang="sr-Latn-CS" sz="2400" spc="-1" strike="noStrike">
                <a:solidFill>
                  <a:srgbClr val="800000"/>
                </a:solidFill>
                <a:latin typeface="Arial"/>
              </a:rPr>
              <a:t>Speciei laxantis </a:t>
            </a:r>
            <a:r>
              <a:rPr b="0" i="1" lang="sr-CS" sz="2400" spc="-1" strike="noStrike">
                <a:solidFill>
                  <a:srgbClr val="800000"/>
                </a:solidFill>
                <a:latin typeface="Arial"/>
              </a:rPr>
              <a:t>5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М.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fia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D.S. 1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кашику на 1 шољу воде пред сп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 пропис је официналан п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. 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ennae foliu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ambuci flo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Frangulae corte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Foeniculi fructu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alii natrii tetraborati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qua purificat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Species laxantes –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чај за чиш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ennae foli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0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ambuci flo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0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gula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5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7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oeniculi fructu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5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7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"/>
              </a:rPr>
              <a:t>Kalii natrii tetraborati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5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qua purificat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5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10,0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55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pecies laxante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Ph. Ju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п.д. = 3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Провера дозирања се врши на основу сигнатуре назначене у рецеп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Пацијент требало да користи 1 кашику, тј. 15 грама &gt; 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ребно је узети у обзир удео чврсте дроге у саставу чајне мешавине, да би се према пропису Ph. Jug. IV , најближе проценило колико грама овакве чајне мешавине стаје у велику каш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h. Jug. IV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велика кашика тежити 3 грам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чајн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мешавин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 од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ветови и лист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кафена кашика тежити 3 грам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ајн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мешавине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р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плод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и корен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7692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пропису у 20 грама чајне мешавине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ветови и листови су заступљени с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ваки 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по 10 грама (укупно 20 гр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ра и плод чине 25 грама (17,5 и 7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рисутн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ише дрога чврст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него дрога мекане структуре (листови и цвето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ребно је изменити сигнатуру за пацијента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!!!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1 кафена кашика чајне мешавине прелије са 200 ml кључале вод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мену дозирања је потребно нагласити на самом рецепту, уз обавезни потпис фармацеута који је корекцију изврш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епарат се издаје са коригованом сигнату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Изра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ропис је за 110 грама, па све састојке треба прерачунати за количину прописану на рецеп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Дроге је потребно просејати кроз одговарајуће сито, одмерити у прописаним количинама и пренети у патену где се промешају пластичним картиц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Лишће сене се посебно припрема, тако што се накваси кључалим воденим раствором калијум-натријум-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етраборат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, осуши на 40-50 °С и помеша са осталим састој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Издавање и сигнатура: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Издаје се у белој папирној кесици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колико би се с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игнатур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лепила на паковање била б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беле бој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 белој папирној кесици н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ис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фену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кашику прелити са 200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кључале воде и попити пред сп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Деловање: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лакса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-3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incturae Belladonnae      5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Узети 3 пута дневно по 5 кап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 је официналан по Ph. Jug 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adonnae folium  (0,75)  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dilutum                q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100 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оге добија се 1000 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нктуре перко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дозе за тинктуру Велебиљ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incturae Belladonna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  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п.д. 0,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п.д. 1,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д.д. 5,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роверу дозир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 зна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Колико грама је тешка једна кап ове тинктуре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то је тинктура велебиља раство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блаж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кохола узимамо да грам тинктуре има 56 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6 капи : 1 грам = 5 :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0,008 грама &lt; 0,5 грам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д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08 грама &lt; 1,5 грам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 нпд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08 x 3 = 0,24 грама &lt; 5,0 грам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дд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: 1000 = x : 50       x = 5 грама д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рама дроге се уситни и просеје кроз сито 0,75 (алкалоидна дро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васи се са 50 грама етан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есе у елермајер широког грла и изради се процесом мацер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 и употре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мној стакленој бочи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 је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ута д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п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моли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Зашто на квалитет екстракције битно утиче правилна уситњеност дро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то што корен, семе и кора имају тврда и непропусна биљна ткива за раства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о дрога није довољно уситњена екстракција ће бити непотпуна, а ако је превише уситњена тешко се одваја од раствар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УСИТЊЕНОСТ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88056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другачије није наведено за мацерате, инфузе и декокте уситњеност биљних дрога треба да буде следећ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алкалоидне дроге – сито 0,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611280" y="1628640"/>
            <a:ext cx="259236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los, folium, herb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6 - цвет, лист, надзем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5651640" y="1557360"/>
            <a:ext cx="2449440" cy="20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ructus, sem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од, с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3348000" y="2852640"/>
            <a:ext cx="2521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Cortex,  radix, rhizoma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то 3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а,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-3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трaкциони поступ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Мацерац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оди се на собној темп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део дроге – 5 делова раствар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церација траје 5 дана уз повремено мућк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рат се одвоји од дроге цеђе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церат се филтрир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 ш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ји 2 д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 се тинктура прави мацерацијом 1 део дроге – 4 дела раствар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Дигес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церација на повишеној температури – 50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еркол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инуирана екстракција дроге на одговарајућој темп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оди се у пеколатору (цилиндрична це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слав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ога се прелије растварачем у перколатору и остави да бубри 2 с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н појаве првих капи из перколатора славина се затвара и дрога се мацерује 12 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н тога се славина отвори и перколат се испушта уз додавање растварача преко д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ним перколатом се сматра количина перколата која одговара маси дроге која се екстрах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варачи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мацерати, инфузи, декокти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тан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екстракти и тинкту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РСТЕ ПРЕПАРАТА КОЈЕ СЕ ИЗРАЂУЈУ ОД БИЉНИХ Д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54936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a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екстракти дрога 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у и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нутрашњу употребу који се добијају преливањем дрога кључалом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ера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erat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ени екстракти дрога за унутрашњу или спољашњу употребу а припремају се екстракцијом дроге на собној темп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кти –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ct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дени екстракти дрога добијени на повишеној темеп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ктуре –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tur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су водено-етанолни екстракти дрога или водено-етанолни раствори есктраката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чни, прашкасти или получврсти препарати који се израђују екстракцијом дрога одговарајућим растварачима неким од екстракционих поступ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јев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e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једноличне мешавине уситњених или неуситњених дрога. Катаплазме су чајеви искључиво за спољну примену – ОБЛ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ВРСТЕ ПРЕПАРАТА КОЈЕ СЕ ИЗРАЂУЈУ ОД БИЉНИХ Д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Инфуз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usa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ени екстракти дрога који се добијају преливањем дрога кључалом водо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делова дроге – 100 делова инфу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дрога јаког деловања мора бити прописана количина д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га се прелије истом количином хладне воде ради бубрења (5 мину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лије се кључалом водом и остави поклопљено 30 ми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ање на хладном месту, три дана, пре употребе промућкати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Мацерат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cerat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ени екстракти дрога који се припремају екстракцијом дроге на собној температу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делова дроге – 100 делова маце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узне дроге 10 делова – 200 делова маце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Декокт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coct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одени екстракти дрога добијени на повишеној темепратури – 90 сте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 10 делова дроге прави се 100 делова деко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д дрога јаког деловања мора бити прописана количина д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рога се прелије водом и греје до 90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кон постизања ове температуре загревање се врши још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Тинктур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inctur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 су водено-етанолни екстракти дрога или водено-етанолни раствори есктраката др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нктуре од дрога слабог деловања израђују се мацерацијом 1 део дроге – 4 дела раствара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нктуре од дрога јаког деловања израђују се перколацијом 1 део дроге – 10 делова раствар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Snezana</cp:lastModifiedBy>
  <dcterms:modified xsi:type="dcterms:W3CDTF">2021-03-22T09:21:21Z</dcterms:modified>
  <cp:revision>51</cp:revision>
  <dc:subject/>
  <dc:title>Slide 1</dc:title>
</cp:coreProperties>
</file>